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3FE-90C1-4E0E-A114-A3B542B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1E7-94C7-417B-A5B5-E2B03CFD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AB2-BD13-4F91-B393-BB186F43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F50-B2AD-486B-B54D-DE2F9CB5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B6A-21BF-474F-91C2-4D823370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1BE-5EE7-4D7F-9215-828CBC0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F62-420C-48BB-8CFE-EDFC302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41C-B153-44E3-B423-5953BC9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784-13FD-4D80-8B10-CE15FC60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8FE-E901-4328-9517-7AF9CE1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058-F6AD-463F-9855-97D9B2E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268-3A2A-4ECC-A732-93DF0AF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7316-1B36-45D0-80A7-A4813ED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8BB-ACD9-4237-905F-3DC4D30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DB5-9FBF-42A5-AE9B-4964092D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45F3-953F-40A2-817E-15809915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7408-1EDF-4F39-8CAA-C0DB782D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70D-EC79-4DB0-A516-82EC477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FA7-C87C-4332-88D2-FB501F9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73A-19FF-4BCF-A34C-118F3D4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947-BBF9-4F3D-8709-2F2191B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A91-0EEC-41CC-A803-5ED7B09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858-237B-41E9-9E62-35D830E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44F-B0F0-429A-B71F-AAFD669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D289-AEDF-4060-BEC2-22C1DBEC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F6E-BF3E-4748-BDF9-6F0A5CC2A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Wonderful Walrus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ndi M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DF0-8C2E-4EB2-8104-B69EF3DBE9E6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nt the readers to be able to describe what the habitats, the main diet, and other informational f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, I would introduce the animal to the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, I would try to overview the entire vi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ould later go into detail about what I overview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tly, I would summarize my entire video, similar to what I did in the overvie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ould make money by making my topic interesting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different from other videos by going into detail with my animal’s habitat, diet, system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3:42Z</dcterms:created>
  <dc:creator/>
  <dc:description/>
  <dc:language>en-US</dc:language>
  <cp:lastModifiedBy>City School</cp:lastModifiedBy>
  <dcterms:modified xsi:type="dcterms:W3CDTF">2013-02-20T19:01:36Z</dcterms:modified>
  <cp:revision>38</cp:revision>
  <dc:subject/>
  <dc:title>The Pitch-Then-Plan Business Planning Template</dc:title>
</cp:coreProperties>
</file>